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37E8-E8C7-4794-84EE-1A651428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04F2-561B-4BCA-876E-7AD7E7F8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8513-40AD-4D42-A476-7711FCE8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EAA6-EB79-492D-8D8D-872C170A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EA96-BBCB-4B79-B484-37246514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E8B2-EE90-4501-879C-29C8B0A2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5BE1-86B5-4D2E-9198-60867AD5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A0C4-B465-4875-9254-22D5CC6A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3059-10CC-44C9-852C-5A8B3A0F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372A-2B5D-4950-975B-B265EE85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2F69-55C6-4EAE-8803-A32165FF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3A3-4DD0-4840-A9F5-E3BDB2C1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CB66-8BEE-4941-8708-0D254BD6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E4D6-9FB7-428D-8306-04136FCA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01CA-7CC5-4156-80D3-B8792EAB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7534-E96F-4FF3-9B22-3E726832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FD8D-22B8-43CC-9B7D-16D111E2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9C4-9560-447D-994C-C91B91CF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304-9A7E-4268-B78D-FA8E90B9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918-62C5-41D7-AEBC-90BC4A1B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F01-28C5-4363-854F-9EC4ABE5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E8A-C812-4FE7-AACA-3A4F00BE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99C1-4860-4650-ADB2-10F2D76D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C024-6385-42CD-9787-F3242E69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0515-520E-4E70-AA78-9BAC93B465EA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40F6-2D3C-417D-8E5F-EA8048F5F661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黑体"/>
              </a:rPr>
              <a:t>广西大型仪器协作共用网入网</a:t>
            </a:r>
            <a:br>
              <a:rPr sz="4000"/>
            </a:b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黑体"/>
              </a:rPr>
              <a:t>仪器（机组）绩效考核培训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1640" y="3284640"/>
            <a:ext cx="4319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仿宋_GB2312"/>
                <a:ea typeface="仿宋_GB2312"/>
              </a:rPr>
              <a:t>广西大型仪器协作共用管理委员会办公室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仿宋_GB2312"/>
                <a:ea typeface="仿宋_GB2312"/>
              </a:rPr>
              <a:t>广西大型仪器协作共用网服务中心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26920" y="33336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8040" y="2865600"/>
            <a:ext cx="1155240" cy="20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ahoma"/>
              </a:rPr>
              <a:t>典型事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05480" y="1484280"/>
            <a:ext cx="2160360" cy="368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委托单位基本信息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2343240"/>
            <a:ext cx="180000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ahoma"/>
              </a:rPr>
              <a:t>事件背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95640" y="3429000"/>
            <a:ext cx="223200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ahoma"/>
              </a:rPr>
              <a:t>研究内容和关键问题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5640" y="5084640"/>
            <a:ext cx="165708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ahoma"/>
              </a:rPr>
              <a:t>取得效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327400"/>
            <a:ext cx="432108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ahoma"/>
              </a:rPr>
              <a:t>事件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简介（</a:t>
            </a:r>
            <a:r>
              <a:rPr b="0" lang="zh-CN" sz="2000" spc="-1" strike="noStrike">
                <a:solidFill>
                  <a:srgbClr val="003366"/>
                </a:solidFill>
                <a:latin typeface="Tahoma"/>
              </a:rPr>
              <a:t>内容，性质等简单介绍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2781360"/>
            <a:ext cx="129528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ahoma"/>
              </a:rPr>
              <a:t>事件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意义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211280" y="170028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11640" y="1700280"/>
            <a:ext cx="0" cy="1366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11640" y="306720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5640" y="2490840"/>
            <a:ext cx="57636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75280" y="3284640"/>
            <a:ext cx="216072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ahoma"/>
              </a:rPr>
              <a:t>使用的仪器种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75280" y="3860640"/>
            <a:ext cx="216072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ahoma"/>
              </a:rPr>
              <a:t>采用的技术方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75280" y="4437000"/>
            <a:ext cx="136836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ahoma"/>
              </a:rPr>
              <a:t>技术关键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716000" y="350208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16360" y="3502080"/>
            <a:ext cx="0" cy="107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458136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851280" y="5445000"/>
            <a:ext cx="433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43280" y="4940280"/>
            <a:ext cx="266544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ahoma"/>
              </a:rPr>
              <a:t>所取的直接经济效益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43280" y="5516640"/>
            <a:ext cx="396108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ahoma"/>
              </a:rPr>
              <a:t>成果、专利、方法、标准、奖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6021360"/>
            <a:ext cx="396072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ahoma"/>
              </a:rPr>
              <a:t>协作共用的经验和做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834920" y="242100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2421000"/>
            <a:ext cx="0" cy="3887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5280" y="630864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03280" y="386064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5280" y="537372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836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服务水平撰写框架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4720" y="5084640"/>
            <a:ext cx="0" cy="649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427280" y="4005360"/>
            <a:ext cx="649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284360" y="508464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284360" y="573408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07120" y="6308640"/>
            <a:ext cx="280836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E58-9279-41A7-8C9A-B001F83C858F}" type="slidenum">
              <a:t>10</a:t>
            </a:fld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484360" y="3068640"/>
            <a:ext cx="345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服务水平案例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07120" y="6308640"/>
            <a:ext cx="280836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16000" y="1052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服务水平案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D81B-9684-4533-AF96-FE66C118BD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042560" y="2106360"/>
            <a:ext cx="72010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指机组为本单位和社会培养的各类专业技术人才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的数量和质量。具体分为：优秀（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分）、良好（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分）、一般（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分）、较差（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分）四个等级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填写要点：委培单位名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培训内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人数（人次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时间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907920"/>
            <a:ext cx="453708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人才培养（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分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6308640"/>
            <a:ext cx="280836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8A4B-DC53-4CEE-A9A4-7ADBF5EDEB81}" type="slidenum">
              <a:t>12</a:t>
            </a:fld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1052280"/>
            <a:ext cx="3887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人才培养填写案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0" t="0" r="0" b="66251"/>
          <a:stretch/>
        </p:blipFill>
        <p:spPr>
          <a:xfrm>
            <a:off x="826920" y="2924280"/>
            <a:ext cx="7993080" cy="21574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156360" y="6308640"/>
            <a:ext cx="280836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49BD-AE42-4B31-AF7F-EA930F1CE0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15640" y="2610000"/>
            <a:ext cx="72723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指机组人员发表的论文、著作；参与研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究开发所获成果，包括检测技术方法、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准、专利等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具体分为：优秀（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分）、良好（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分）、一般（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分）、较差（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分）四个等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评分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836640"/>
            <a:ext cx="6481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科研成果（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分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6308640"/>
            <a:ext cx="280836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1D2-0DEA-4A0C-9E71-4AD5164A831C}" type="slidenum">
              <a:t>14</a:t>
            </a:fld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55640" y="2425680"/>
            <a:ext cx="78487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论文及著作方面：须注明论文题目、作者姓名、发表的刊物名称、时间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参与研究获得成果的，要注明研究项目名称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获奖的要注明项目具体名称、所获奖项名称、等级排名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专利、标准等成果要注明专利号、标准号或者批准号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最好能拿出相关证明材料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1052640"/>
            <a:ext cx="6481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科研成果（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分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56360" y="6308640"/>
            <a:ext cx="280836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9BD-F32E-4A33-A637-91A245BAE0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195280" y="2781360"/>
            <a:ext cx="46083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科研成果案例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科研成果案例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56360" y="6308640"/>
            <a:ext cx="280836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42920" y="105264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科研成果填写案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80D-56CA-44CA-AF99-FB4E2297F8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258560" y="2420640"/>
            <a:ext cx="67690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指机组执行相关管理制度、操作规程和内控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质量体系情况及其效果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具体分为：优秀（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分）、良好（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分）、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般（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分）、较差（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分）四个等级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主要内容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）制定了何种管理制度、操作规程、和质量体系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）遵守的情况和执行的效果如何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6920" y="907920"/>
            <a:ext cx="468180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管理水平（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分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6308640"/>
            <a:ext cx="280836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2DF-9319-403D-8911-244935DB3FA7}" type="slidenum">
              <a:t>17</a:t>
            </a:fld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115640" y="2420640"/>
            <a:ext cx="6553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指依托单位为机组所提供的资金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场地、水电、人员等条件保障情况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具体分为：优秀（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分）、良好（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分）、一般（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分）、较差（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分）四个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等级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981000"/>
            <a:ext cx="43214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条件保障（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分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56360" y="6308640"/>
            <a:ext cx="280836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779-BD4C-4219-B04F-596E51B5FDCA}" type="slidenum">
              <a:t>18</a:t>
            </a:fld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092240" y="1029960"/>
            <a:ext cx="227160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案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476000" y="2852640"/>
            <a:ext cx="5894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管理水平和条件保障案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56360" y="6308640"/>
            <a:ext cx="280836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7C6-88D6-4867-9F49-AF0DF73FF4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2764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宋体"/>
              </a:rPr>
              <a:t>第一条 考核的依据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26920" y="2491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广西大型科学仪器设备协作共用绩效考核管理办法（试行）（桂科条字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[2006]42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号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广西大型仪器协作共用网入网仪器单位（机组）绩效考核实施细则（试行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6165720"/>
            <a:ext cx="280800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AA1-E1C1-4A9C-972D-A0245A0036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15760" y="1106640"/>
            <a:ext cx="61498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绩效考核自评报告表填写案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484360" y="2708280"/>
            <a:ext cx="39499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具体填报举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56360" y="6308640"/>
            <a:ext cx="280836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50E6-49E7-4A99-9678-B2326C1EE7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15760" y="1106640"/>
            <a:ext cx="78166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绩效考核填报工作注意事项及要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993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、平时认真做好相关记录，并注意积累素材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2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、填报材料须真实、可信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3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、客观计算部分，如经过计算，实际分值超过了该项赋分的最高值，则取最高值而不取实际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6308640"/>
            <a:ext cx="280836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1DE-6384-480B-8079-A605F3BCDE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15760" y="1106640"/>
            <a:ext cx="78166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绩效考核填报工作注意事项及要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7662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例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某机组某年开机时数达到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2000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小时，按照公式计算，其仪器使用率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仪器使用率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=2000/1000 *100%=2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实际分值：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20*1.5=30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该项赋分最高值：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所以，该项得分为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分，而不是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分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6360" y="6308640"/>
            <a:ext cx="280836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935-296F-47E0-B7BC-A9520503A6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64920" y="890640"/>
            <a:ext cx="78166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绩效考核填报工作注意事项及要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84360" y="2349000"/>
            <a:ext cx="79912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3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、不同的仪器（机组）应有各自的特点，严禁将典型服务案例 “共用”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4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、人才培养，科研成果方面要求量化描述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5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、最好能提供相关的证明文件和材料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6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、如遇敏感领域，涉密内容，则不要求上报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56360" y="6308640"/>
            <a:ext cx="280836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D08C-E098-4E7E-8157-B294C21C44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24000" y="1052280"/>
            <a:ext cx="47037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3366"/>
                </a:solidFill>
                <a:latin typeface="Arial"/>
              </a:rPr>
              <a:t>谢       谢</a:t>
            </a:r>
            <a:r>
              <a:rPr b="1" lang="zh-CN" sz="6600" spc="-1" strike="noStrike">
                <a:solidFill>
                  <a:srgbClr val="003366"/>
                </a:solidFill>
                <a:latin typeface="Arial"/>
              </a:rPr>
              <a:t>!</a:t>
            </a:r>
            <a:endParaRPr b="1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403280" y="2276640"/>
            <a:ext cx="6840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依据折算该仪器设备原有功能的利用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程度来打分，具体按每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个百分点计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分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907920"/>
            <a:ext cx="619308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功能利用率（分值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0-10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分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332000" y="4221000"/>
                <a:ext cx="67690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功能利用率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已利用的仪器功能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仪器原有功能数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6588000" y="5589720"/>
            <a:ext cx="1008360" cy="287280"/>
          </a:xfrm>
          <a:custGeom>
            <a:avLst/>
            <a:gdLst>
              <a:gd name="textAreaLeft" fmla="*/ 18360 w 1008360"/>
              <a:gd name="textAreaRight" fmla="*/ 990000 w 1008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75749" h="21600">
                <a:moveTo>
                  <a:pt x="0" y="0"/>
                </a:moveTo>
                <a:lnTo>
                  <a:pt x="75749" y="0"/>
                </a:lnTo>
                <a:lnTo>
                  <a:pt x="75749" y="21600"/>
                </a:lnTo>
                <a:lnTo>
                  <a:pt x="0" y="21600"/>
                </a:lnTo>
                <a:close/>
              </a:path>
              <a:path fill="lightenLess" w="75749" h="21600">
                <a:moveTo>
                  <a:pt x="0" y="0"/>
                </a:moveTo>
                <a:lnTo>
                  <a:pt x="75749" y="0"/>
                </a:lnTo>
                <a:lnTo>
                  <a:pt x="74349" y="1400"/>
                </a:lnTo>
                <a:lnTo>
                  <a:pt x="1400" y="1400"/>
                </a:lnTo>
                <a:close/>
              </a:path>
              <a:path fill="darken" w="75749" h="21600">
                <a:moveTo>
                  <a:pt x="75749" y="0"/>
                </a:moveTo>
                <a:lnTo>
                  <a:pt x="75749" y="21600"/>
                </a:lnTo>
                <a:lnTo>
                  <a:pt x="74349" y="20200"/>
                </a:lnTo>
                <a:lnTo>
                  <a:pt x="74349" y="1400"/>
                </a:lnTo>
                <a:close/>
              </a:path>
              <a:path fill="darkenLess" w="75749" h="21600">
                <a:moveTo>
                  <a:pt x="75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349" y="20200"/>
                </a:lnTo>
                <a:close/>
              </a:path>
              <a:path fill="lighten" w="75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749" h="21600">
                <a:moveTo>
                  <a:pt x="37874" y="3837"/>
                </a:moveTo>
                <a:lnTo>
                  <a:pt x="40451" y="6448"/>
                </a:lnTo>
                <a:lnTo>
                  <a:pt x="40451" y="4707"/>
                </a:lnTo>
                <a:lnTo>
                  <a:pt x="42226" y="4707"/>
                </a:lnTo>
                <a:lnTo>
                  <a:pt x="42226" y="8224"/>
                </a:lnTo>
                <a:lnTo>
                  <a:pt x="44837" y="10800"/>
                </a:lnTo>
                <a:lnTo>
                  <a:pt x="43184" y="10800"/>
                </a:lnTo>
                <a:lnTo>
                  <a:pt x="43184" y="17989"/>
                </a:lnTo>
                <a:lnTo>
                  <a:pt x="32565" y="17989"/>
                </a:lnTo>
                <a:lnTo>
                  <a:pt x="32565" y="10800"/>
                </a:lnTo>
                <a:lnTo>
                  <a:pt x="30911" y="10800"/>
                </a:lnTo>
                <a:close/>
              </a:path>
              <a:path fill="darkenLess" w="75749" h="21600">
                <a:moveTo>
                  <a:pt x="40451" y="6448"/>
                </a:moveTo>
                <a:lnTo>
                  <a:pt x="40451" y="4707"/>
                </a:lnTo>
                <a:lnTo>
                  <a:pt x="42226" y="4707"/>
                </a:lnTo>
                <a:lnTo>
                  <a:pt x="42226" y="8224"/>
                </a:lnTo>
                <a:close/>
              </a:path>
              <a:path fill="darkenLess" w="75749" h="21600">
                <a:moveTo>
                  <a:pt x="36952" y="14299"/>
                </a:moveTo>
                <a:lnTo>
                  <a:pt x="38797" y="14299"/>
                </a:lnTo>
                <a:lnTo>
                  <a:pt x="38797" y="17989"/>
                </a:lnTo>
                <a:lnTo>
                  <a:pt x="43184" y="17989"/>
                </a:lnTo>
                <a:lnTo>
                  <a:pt x="43184" y="10800"/>
                </a:lnTo>
                <a:lnTo>
                  <a:pt x="32565" y="10800"/>
                </a:lnTo>
                <a:lnTo>
                  <a:pt x="32565" y="17989"/>
                </a:lnTo>
                <a:lnTo>
                  <a:pt x="36952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返    回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56360" y="6308640"/>
            <a:ext cx="280836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31E-F521-4A8C-8FFC-B9EEA72C69DB}" type="slidenum">
              <a:t>25</a:t>
            </a:fld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258920" y="2060640"/>
            <a:ext cx="7058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根据折算该仪器设备年实际使用时数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年标准开机机时数的百分率来打分，具体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每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个百分点计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.5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分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619280" y="4292640"/>
                <a:ext cx="61196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仪器使用率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年使用机时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6877080" y="5661000"/>
            <a:ext cx="1008000" cy="287280"/>
          </a:xfrm>
          <a:custGeom>
            <a:avLst/>
            <a:gdLst>
              <a:gd name="textAreaLeft" fmla="*/ 18360 w 1008000"/>
              <a:gd name="textAreaRight" fmla="*/ 989640 w 100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75722" h="21600">
                <a:moveTo>
                  <a:pt x="0" y="0"/>
                </a:moveTo>
                <a:lnTo>
                  <a:pt x="75722" y="0"/>
                </a:lnTo>
                <a:lnTo>
                  <a:pt x="75722" y="21600"/>
                </a:lnTo>
                <a:lnTo>
                  <a:pt x="0" y="21600"/>
                </a:lnTo>
                <a:close/>
              </a:path>
              <a:path fill="lightenLess" w="75722" h="21600">
                <a:moveTo>
                  <a:pt x="0" y="0"/>
                </a:moveTo>
                <a:lnTo>
                  <a:pt x="75722" y="0"/>
                </a:lnTo>
                <a:lnTo>
                  <a:pt x="74322" y="1400"/>
                </a:lnTo>
                <a:lnTo>
                  <a:pt x="1400" y="1400"/>
                </a:lnTo>
                <a:close/>
              </a:path>
              <a:path fill="darken" w="75722" h="21600">
                <a:moveTo>
                  <a:pt x="75722" y="0"/>
                </a:moveTo>
                <a:lnTo>
                  <a:pt x="75722" y="21600"/>
                </a:lnTo>
                <a:lnTo>
                  <a:pt x="74322" y="20200"/>
                </a:lnTo>
                <a:lnTo>
                  <a:pt x="74322" y="1400"/>
                </a:lnTo>
                <a:close/>
              </a:path>
              <a:path fill="darkenLess" w="75722" h="21600">
                <a:moveTo>
                  <a:pt x="75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322" y="20200"/>
                </a:lnTo>
                <a:close/>
              </a:path>
              <a:path fill="lighten" w="75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722" h="21600">
                <a:moveTo>
                  <a:pt x="37861" y="3837"/>
                </a:moveTo>
                <a:lnTo>
                  <a:pt x="40437" y="6448"/>
                </a:lnTo>
                <a:lnTo>
                  <a:pt x="40437" y="4707"/>
                </a:lnTo>
                <a:lnTo>
                  <a:pt x="42213" y="4707"/>
                </a:lnTo>
                <a:lnTo>
                  <a:pt x="42213" y="8224"/>
                </a:lnTo>
                <a:lnTo>
                  <a:pt x="44824" y="10800"/>
                </a:lnTo>
                <a:lnTo>
                  <a:pt x="43170" y="10800"/>
                </a:lnTo>
                <a:lnTo>
                  <a:pt x="43170" y="17989"/>
                </a:lnTo>
                <a:lnTo>
                  <a:pt x="32552" y="17989"/>
                </a:lnTo>
                <a:lnTo>
                  <a:pt x="32552" y="10800"/>
                </a:lnTo>
                <a:lnTo>
                  <a:pt x="30898" y="10800"/>
                </a:lnTo>
                <a:close/>
              </a:path>
              <a:path fill="darkenLess" w="75722" h="21600">
                <a:moveTo>
                  <a:pt x="40437" y="6448"/>
                </a:moveTo>
                <a:lnTo>
                  <a:pt x="40437" y="4707"/>
                </a:lnTo>
                <a:lnTo>
                  <a:pt x="42213" y="4707"/>
                </a:lnTo>
                <a:lnTo>
                  <a:pt x="42213" y="8224"/>
                </a:lnTo>
                <a:close/>
              </a:path>
              <a:path fill="darkenLess" w="75722" h="21600">
                <a:moveTo>
                  <a:pt x="36938" y="14299"/>
                </a:moveTo>
                <a:lnTo>
                  <a:pt x="38783" y="14299"/>
                </a:lnTo>
                <a:lnTo>
                  <a:pt x="38783" y="17989"/>
                </a:lnTo>
                <a:lnTo>
                  <a:pt x="43170" y="17989"/>
                </a:lnTo>
                <a:lnTo>
                  <a:pt x="43170" y="10800"/>
                </a:lnTo>
                <a:lnTo>
                  <a:pt x="32552" y="10800"/>
                </a:lnTo>
                <a:lnTo>
                  <a:pt x="32552" y="17989"/>
                </a:lnTo>
                <a:lnTo>
                  <a:pt x="36938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返    回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19280" y="126828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仪器使用率（分值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0-15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56360" y="6308640"/>
            <a:ext cx="280836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1F1-C9B3-4A0B-8282-1D3E563F609E}" type="slidenum">
              <a:t>26</a:t>
            </a:fld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770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根据折算该仪器设备对外开放共享，为社会提供服务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的机时数来打分，具体按每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个百分点计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1.5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分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981000"/>
            <a:ext cx="777240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仪器对外开放程度（分值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0-15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分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116000" y="3789360"/>
                <a:ext cx="748980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仪器对外开放率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年为社会服务机时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6516720" y="5229360"/>
            <a:ext cx="1008000" cy="287280"/>
          </a:xfrm>
          <a:custGeom>
            <a:avLst/>
            <a:gdLst>
              <a:gd name="textAreaLeft" fmla="*/ 18360 w 1008000"/>
              <a:gd name="textAreaRight" fmla="*/ 989640 w 100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75722" h="21600">
                <a:moveTo>
                  <a:pt x="0" y="0"/>
                </a:moveTo>
                <a:lnTo>
                  <a:pt x="75722" y="0"/>
                </a:lnTo>
                <a:lnTo>
                  <a:pt x="75722" y="21600"/>
                </a:lnTo>
                <a:lnTo>
                  <a:pt x="0" y="21600"/>
                </a:lnTo>
                <a:close/>
              </a:path>
              <a:path fill="lightenLess" w="75722" h="21600">
                <a:moveTo>
                  <a:pt x="0" y="0"/>
                </a:moveTo>
                <a:lnTo>
                  <a:pt x="75722" y="0"/>
                </a:lnTo>
                <a:lnTo>
                  <a:pt x="74322" y="1400"/>
                </a:lnTo>
                <a:lnTo>
                  <a:pt x="1400" y="1400"/>
                </a:lnTo>
                <a:close/>
              </a:path>
              <a:path fill="darken" w="75722" h="21600">
                <a:moveTo>
                  <a:pt x="75722" y="0"/>
                </a:moveTo>
                <a:lnTo>
                  <a:pt x="75722" y="21600"/>
                </a:lnTo>
                <a:lnTo>
                  <a:pt x="74322" y="20200"/>
                </a:lnTo>
                <a:lnTo>
                  <a:pt x="74322" y="1400"/>
                </a:lnTo>
                <a:close/>
              </a:path>
              <a:path fill="darkenLess" w="75722" h="21600">
                <a:moveTo>
                  <a:pt x="75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322" y="20200"/>
                </a:lnTo>
                <a:close/>
              </a:path>
              <a:path fill="lighten" w="75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722" h="21600">
                <a:moveTo>
                  <a:pt x="37861" y="3837"/>
                </a:moveTo>
                <a:lnTo>
                  <a:pt x="40437" y="6448"/>
                </a:lnTo>
                <a:lnTo>
                  <a:pt x="40437" y="4707"/>
                </a:lnTo>
                <a:lnTo>
                  <a:pt x="42213" y="4707"/>
                </a:lnTo>
                <a:lnTo>
                  <a:pt x="42213" y="8224"/>
                </a:lnTo>
                <a:lnTo>
                  <a:pt x="44824" y="10800"/>
                </a:lnTo>
                <a:lnTo>
                  <a:pt x="43170" y="10800"/>
                </a:lnTo>
                <a:lnTo>
                  <a:pt x="43170" y="17989"/>
                </a:lnTo>
                <a:lnTo>
                  <a:pt x="32552" y="17989"/>
                </a:lnTo>
                <a:lnTo>
                  <a:pt x="32552" y="10800"/>
                </a:lnTo>
                <a:lnTo>
                  <a:pt x="30898" y="10800"/>
                </a:lnTo>
                <a:close/>
              </a:path>
              <a:path fill="darkenLess" w="75722" h="21600">
                <a:moveTo>
                  <a:pt x="40437" y="6448"/>
                </a:moveTo>
                <a:lnTo>
                  <a:pt x="40437" y="4707"/>
                </a:lnTo>
                <a:lnTo>
                  <a:pt x="42213" y="4707"/>
                </a:lnTo>
                <a:lnTo>
                  <a:pt x="42213" y="8224"/>
                </a:lnTo>
                <a:close/>
              </a:path>
              <a:path fill="darkenLess" w="75722" h="21600">
                <a:moveTo>
                  <a:pt x="36938" y="14299"/>
                </a:moveTo>
                <a:lnTo>
                  <a:pt x="38783" y="14299"/>
                </a:lnTo>
                <a:lnTo>
                  <a:pt x="38783" y="17989"/>
                </a:lnTo>
                <a:lnTo>
                  <a:pt x="43170" y="17989"/>
                </a:lnTo>
                <a:lnTo>
                  <a:pt x="43170" y="10800"/>
                </a:lnTo>
                <a:lnTo>
                  <a:pt x="32552" y="10800"/>
                </a:lnTo>
                <a:lnTo>
                  <a:pt x="32552" y="17989"/>
                </a:lnTo>
                <a:lnTo>
                  <a:pt x="36938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返    回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56360" y="6308640"/>
            <a:ext cx="280836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F93-489F-4700-A7CF-3FBDF1050FBC}" type="slidenum">
              <a:t>27</a:t>
            </a:fld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26560" y="2276280"/>
            <a:ext cx="770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其计算方法为：以每天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小时工作制，扣除预热、清理等自然需要的辅助工作时间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小时，按每天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小时工作时间计，全年实际开机天数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215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天计（全年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365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天，扣除仪器定期维护检修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35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天和法定节假日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115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天），修正系数为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0.8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即标准机时＝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小时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天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×215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天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×0.8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＝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1032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小时≈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1000</a:t>
            </a: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小时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692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1000 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设定的全年开机标准时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32720" y="5445000"/>
            <a:ext cx="1008000" cy="287640"/>
          </a:xfrm>
          <a:custGeom>
            <a:avLst/>
            <a:gdLst>
              <a:gd name="textAreaLeft" fmla="*/ 18360 w 1008000"/>
              <a:gd name="textAreaRight" fmla="*/ 989640 w 100800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75627" h="21600">
                <a:moveTo>
                  <a:pt x="0" y="0"/>
                </a:moveTo>
                <a:lnTo>
                  <a:pt x="75627" y="0"/>
                </a:lnTo>
                <a:lnTo>
                  <a:pt x="75627" y="21600"/>
                </a:lnTo>
                <a:lnTo>
                  <a:pt x="0" y="21600"/>
                </a:lnTo>
                <a:close/>
              </a:path>
              <a:path fill="lightenLess" w="75627" h="21600">
                <a:moveTo>
                  <a:pt x="0" y="0"/>
                </a:moveTo>
                <a:lnTo>
                  <a:pt x="75627" y="0"/>
                </a:lnTo>
                <a:lnTo>
                  <a:pt x="74227" y="1400"/>
                </a:lnTo>
                <a:lnTo>
                  <a:pt x="1400" y="1400"/>
                </a:lnTo>
                <a:close/>
              </a:path>
              <a:path fill="darken" w="75627" h="21600">
                <a:moveTo>
                  <a:pt x="75627" y="0"/>
                </a:moveTo>
                <a:lnTo>
                  <a:pt x="75627" y="21600"/>
                </a:lnTo>
                <a:lnTo>
                  <a:pt x="74227" y="20200"/>
                </a:lnTo>
                <a:lnTo>
                  <a:pt x="74227" y="1400"/>
                </a:lnTo>
                <a:close/>
              </a:path>
              <a:path fill="darkenLess" w="75627" h="21600">
                <a:moveTo>
                  <a:pt x="75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27" y="20200"/>
                </a:lnTo>
                <a:close/>
              </a:path>
              <a:path fill="lighten" w="75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627" h="21600">
                <a:moveTo>
                  <a:pt x="37814" y="3837"/>
                </a:moveTo>
                <a:lnTo>
                  <a:pt x="40390" y="6448"/>
                </a:lnTo>
                <a:lnTo>
                  <a:pt x="40390" y="4707"/>
                </a:lnTo>
                <a:lnTo>
                  <a:pt x="42165" y="4707"/>
                </a:lnTo>
                <a:lnTo>
                  <a:pt x="42165" y="8224"/>
                </a:lnTo>
                <a:lnTo>
                  <a:pt x="44776" y="10800"/>
                </a:lnTo>
                <a:lnTo>
                  <a:pt x="43123" y="10800"/>
                </a:lnTo>
                <a:lnTo>
                  <a:pt x="43123" y="17989"/>
                </a:lnTo>
                <a:lnTo>
                  <a:pt x="32504" y="17989"/>
                </a:lnTo>
                <a:lnTo>
                  <a:pt x="32504" y="10800"/>
                </a:lnTo>
                <a:lnTo>
                  <a:pt x="30851" y="10800"/>
                </a:lnTo>
                <a:close/>
              </a:path>
              <a:path fill="darkenLess" w="75627" h="21600">
                <a:moveTo>
                  <a:pt x="40390" y="6448"/>
                </a:moveTo>
                <a:lnTo>
                  <a:pt x="40390" y="4707"/>
                </a:lnTo>
                <a:lnTo>
                  <a:pt x="42165" y="4707"/>
                </a:lnTo>
                <a:lnTo>
                  <a:pt x="42165" y="8224"/>
                </a:lnTo>
                <a:close/>
              </a:path>
              <a:path fill="darkenLess" w="75627" h="21600">
                <a:moveTo>
                  <a:pt x="36891" y="14299"/>
                </a:moveTo>
                <a:lnTo>
                  <a:pt x="38736" y="14299"/>
                </a:lnTo>
                <a:lnTo>
                  <a:pt x="38736" y="17989"/>
                </a:lnTo>
                <a:lnTo>
                  <a:pt x="43123" y="17989"/>
                </a:lnTo>
                <a:lnTo>
                  <a:pt x="43123" y="10800"/>
                </a:lnTo>
                <a:lnTo>
                  <a:pt x="32504" y="10800"/>
                </a:lnTo>
                <a:lnTo>
                  <a:pt x="32504" y="17989"/>
                </a:lnTo>
                <a:lnTo>
                  <a:pt x="36891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返    回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56360" y="6308640"/>
            <a:ext cx="280836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CB6-F03E-48EB-8869-C836038BE1F8}" type="slidenum">
              <a:t>28</a:t>
            </a:fld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99640" y="2060640"/>
            <a:ext cx="770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根据折算该仪器设备维护保养好坏程度来打分，具体按每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个百分点计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分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26920" y="1052640"/>
            <a:ext cx="77724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仪器完好程度（分值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0-10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分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116000" y="3933720"/>
                <a:ext cx="72723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仪器完好率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（1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年故障小时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）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6659640" y="5516640"/>
            <a:ext cx="1008000" cy="287280"/>
          </a:xfrm>
          <a:custGeom>
            <a:avLst/>
            <a:gdLst>
              <a:gd name="textAreaLeft" fmla="*/ 18360 w 1008000"/>
              <a:gd name="textAreaRight" fmla="*/ 989640 w 100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75722" h="21600">
                <a:moveTo>
                  <a:pt x="0" y="0"/>
                </a:moveTo>
                <a:lnTo>
                  <a:pt x="75722" y="0"/>
                </a:lnTo>
                <a:lnTo>
                  <a:pt x="75722" y="21600"/>
                </a:lnTo>
                <a:lnTo>
                  <a:pt x="0" y="21600"/>
                </a:lnTo>
                <a:close/>
              </a:path>
              <a:path fill="lightenLess" w="75722" h="21600">
                <a:moveTo>
                  <a:pt x="0" y="0"/>
                </a:moveTo>
                <a:lnTo>
                  <a:pt x="75722" y="0"/>
                </a:lnTo>
                <a:lnTo>
                  <a:pt x="74322" y="1400"/>
                </a:lnTo>
                <a:lnTo>
                  <a:pt x="1400" y="1400"/>
                </a:lnTo>
                <a:close/>
              </a:path>
              <a:path fill="darken" w="75722" h="21600">
                <a:moveTo>
                  <a:pt x="75722" y="0"/>
                </a:moveTo>
                <a:lnTo>
                  <a:pt x="75722" y="21600"/>
                </a:lnTo>
                <a:lnTo>
                  <a:pt x="74322" y="20200"/>
                </a:lnTo>
                <a:lnTo>
                  <a:pt x="74322" y="1400"/>
                </a:lnTo>
                <a:close/>
              </a:path>
              <a:path fill="darkenLess" w="75722" h="21600">
                <a:moveTo>
                  <a:pt x="75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322" y="20200"/>
                </a:lnTo>
                <a:close/>
              </a:path>
              <a:path fill="lighten" w="75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722" h="21600">
                <a:moveTo>
                  <a:pt x="37861" y="3837"/>
                </a:moveTo>
                <a:lnTo>
                  <a:pt x="40437" y="6448"/>
                </a:lnTo>
                <a:lnTo>
                  <a:pt x="40437" y="4707"/>
                </a:lnTo>
                <a:lnTo>
                  <a:pt x="42213" y="4707"/>
                </a:lnTo>
                <a:lnTo>
                  <a:pt x="42213" y="8224"/>
                </a:lnTo>
                <a:lnTo>
                  <a:pt x="44824" y="10800"/>
                </a:lnTo>
                <a:lnTo>
                  <a:pt x="43170" y="10800"/>
                </a:lnTo>
                <a:lnTo>
                  <a:pt x="43170" y="17989"/>
                </a:lnTo>
                <a:lnTo>
                  <a:pt x="32552" y="17989"/>
                </a:lnTo>
                <a:lnTo>
                  <a:pt x="32552" y="10800"/>
                </a:lnTo>
                <a:lnTo>
                  <a:pt x="30898" y="10800"/>
                </a:lnTo>
                <a:close/>
              </a:path>
              <a:path fill="darkenLess" w="75722" h="21600">
                <a:moveTo>
                  <a:pt x="40437" y="6448"/>
                </a:moveTo>
                <a:lnTo>
                  <a:pt x="40437" y="4707"/>
                </a:lnTo>
                <a:lnTo>
                  <a:pt x="42213" y="4707"/>
                </a:lnTo>
                <a:lnTo>
                  <a:pt x="42213" y="8224"/>
                </a:lnTo>
                <a:close/>
              </a:path>
              <a:path fill="darkenLess" w="75722" h="21600">
                <a:moveTo>
                  <a:pt x="36938" y="14299"/>
                </a:moveTo>
                <a:lnTo>
                  <a:pt x="38783" y="14299"/>
                </a:lnTo>
                <a:lnTo>
                  <a:pt x="38783" y="17989"/>
                </a:lnTo>
                <a:lnTo>
                  <a:pt x="43170" y="17989"/>
                </a:lnTo>
                <a:lnTo>
                  <a:pt x="43170" y="10800"/>
                </a:lnTo>
                <a:lnTo>
                  <a:pt x="32552" y="10800"/>
                </a:lnTo>
                <a:lnTo>
                  <a:pt x="32552" y="17989"/>
                </a:lnTo>
                <a:lnTo>
                  <a:pt x="36938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返    回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56360" y="6308640"/>
            <a:ext cx="280836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FDDE-72CF-4157-B896-D3D04A9124CA}" type="slidenum">
              <a:t>29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79930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考核对象：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广西大型仪器协作共用网入网仪器（机组）、成员单位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考核的主要内容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入网仪器的使用情况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入网机组业务水平及开展共享服务的能力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各种服务成效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运行管理情况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765000"/>
            <a:ext cx="55454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宋体"/>
              </a:rPr>
              <a:t>第二条 考核对象及内容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6165720"/>
            <a:ext cx="280800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461-D929-41AA-8528-ADF5FC78C1E4}" type="slidenum">
              <a:t>3</a:t>
            </a:fld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99640" y="2491920"/>
            <a:ext cx="770580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根据折算该仪器设备使用产生的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黑体"/>
              </a:rPr>
              <a:t>直接经济效益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，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为单位创造的各种收入包括所获科研经费、分析检测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技术服务等收费，以万元为单位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专业检测机构类：每创收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万元打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分计算，其他单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位：每创收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万元打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分计算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6920" y="765000"/>
            <a:ext cx="777240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仪器产生的经济效益（分值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0-10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分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5300640"/>
            <a:ext cx="1008000" cy="287280"/>
          </a:xfrm>
          <a:custGeom>
            <a:avLst/>
            <a:gdLst>
              <a:gd name="textAreaLeft" fmla="*/ 18360 w 1008000"/>
              <a:gd name="textAreaRight" fmla="*/ 989640 w 100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75722" h="21600">
                <a:moveTo>
                  <a:pt x="0" y="0"/>
                </a:moveTo>
                <a:lnTo>
                  <a:pt x="75722" y="0"/>
                </a:lnTo>
                <a:lnTo>
                  <a:pt x="75722" y="21600"/>
                </a:lnTo>
                <a:lnTo>
                  <a:pt x="0" y="21600"/>
                </a:lnTo>
                <a:close/>
              </a:path>
              <a:path fill="lightenLess" w="75722" h="21600">
                <a:moveTo>
                  <a:pt x="0" y="0"/>
                </a:moveTo>
                <a:lnTo>
                  <a:pt x="75722" y="0"/>
                </a:lnTo>
                <a:lnTo>
                  <a:pt x="74322" y="1400"/>
                </a:lnTo>
                <a:lnTo>
                  <a:pt x="1400" y="1400"/>
                </a:lnTo>
                <a:close/>
              </a:path>
              <a:path fill="darken" w="75722" h="21600">
                <a:moveTo>
                  <a:pt x="75722" y="0"/>
                </a:moveTo>
                <a:lnTo>
                  <a:pt x="75722" y="21600"/>
                </a:lnTo>
                <a:lnTo>
                  <a:pt x="74322" y="20200"/>
                </a:lnTo>
                <a:lnTo>
                  <a:pt x="74322" y="1400"/>
                </a:lnTo>
                <a:close/>
              </a:path>
              <a:path fill="darkenLess" w="75722" h="21600">
                <a:moveTo>
                  <a:pt x="75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322" y="20200"/>
                </a:lnTo>
                <a:close/>
              </a:path>
              <a:path fill="lighten" w="75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722" h="21600">
                <a:moveTo>
                  <a:pt x="37861" y="3837"/>
                </a:moveTo>
                <a:lnTo>
                  <a:pt x="40437" y="6448"/>
                </a:lnTo>
                <a:lnTo>
                  <a:pt x="40437" y="4707"/>
                </a:lnTo>
                <a:lnTo>
                  <a:pt x="42213" y="4707"/>
                </a:lnTo>
                <a:lnTo>
                  <a:pt x="42213" y="8224"/>
                </a:lnTo>
                <a:lnTo>
                  <a:pt x="44824" y="10800"/>
                </a:lnTo>
                <a:lnTo>
                  <a:pt x="43170" y="10800"/>
                </a:lnTo>
                <a:lnTo>
                  <a:pt x="43170" y="17989"/>
                </a:lnTo>
                <a:lnTo>
                  <a:pt x="32552" y="17989"/>
                </a:lnTo>
                <a:lnTo>
                  <a:pt x="32552" y="10800"/>
                </a:lnTo>
                <a:lnTo>
                  <a:pt x="30898" y="10800"/>
                </a:lnTo>
                <a:close/>
              </a:path>
              <a:path fill="darkenLess" w="75722" h="21600">
                <a:moveTo>
                  <a:pt x="40437" y="6448"/>
                </a:moveTo>
                <a:lnTo>
                  <a:pt x="40437" y="4707"/>
                </a:lnTo>
                <a:lnTo>
                  <a:pt x="42213" y="4707"/>
                </a:lnTo>
                <a:lnTo>
                  <a:pt x="42213" y="8224"/>
                </a:lnTo>
                <a:close/>
              </a:path>
              <a:path fill="darkenLess" w="75722" h="21600">
                <a:moveTo>
                  <a:pt x="36938" y="14299"/>
                </a:moveTo>
                <a:lnTo>
                  <a:pt x="38783" y="14299"/>
                </a:lnTo>
                <a:lnTo>
                  <a:pt x="38783" y="17989"/>
                </a:lnTo>
                <a:lnTo>
                  <a:pt x="43170" y="17989"/>
                </a:lnTo>
                <a:lnTo>
                  <a:pt x="43170" y="10800"/>
                </a:lnTo>
                <a:lnTo>
                  <a:pt x="32552" y="10800"/>
                </a:lnTo>
                <a:lnTo>
                  <a:pt x="32552" y="17989"/>
                </a:lnTo>
                <a:lnTo>
                  <a:pt x="36938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返    回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56360" y="6308640"/>
            <a:ext cx="280836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D9EF-FDF5-448A-AAB2-5045F34EA6EA}" type="slidenum">
              <a:t>30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26920" y="692280"/>
            <a:ext cx="475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17440" indent="-111744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宋体"/>
              </a:rPr>
              <a:t>第三条 具体操作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6165720"/>
            <a:ext cx="280800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2435400"/>
            <a:ext cx="73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考核方式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: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在入网仪器单位（机组）做好原始记录、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自考自评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的基础上，广西大型仪器协作共用管理委员会办公室（委托中介机构或专家）采取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现场考核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非现场考核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相结合的方式进行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考核频率：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每年进行一次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考核年度：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上年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月到次年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月底。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F52C-3754-4EE6-92C5-CE70C9837FE1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26920" y="836640"/>
            <a:ext cx="4321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宋体"/>
              </a:rPr>
              <a:t>第四条  考核流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2819520"/>
            <a:ext cx="180000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ahoma"/>
              </a:rPr>
              <a:t>信息报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3178080"/>
            <a:ext cx="2879640" cy="368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报送时间：每年</a:t>
            </a: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11</a:t>
            </a: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月中旬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2387520"/>
            <a:ext cx="4319640" cy="368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完成《广西大型仪器协作共用网入网仪器单位（机组）绩效自评报告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4330800"/>
            <a:ext cx="180036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ahoma"/>
              </a:rPr>
              <a:t>绩效考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3898800"/>
            <a:ext cx="3456000" cy="368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审核、汇总、计算、统计、分析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403880"/>
            <a:ext cx="1655640" cy="368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现场抽样考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4906800"/>
            <a:ext cx="4319640" cy="368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完成《广西大型仪器协作共用网入网仪器设备绩效考核报告》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5843520"/>
            <a:ext cx="180036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ahoma"/>
              </a:rPr>
              <a:t>结果公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56000" y="3035160"/>
            <a:ext cx="792000" cy="142920"/>
          </a:xfrm>
          <a:prstGeom prst="leftRightArrow">
            <a:avLst>
              <a:gd name="adj1" fmla="val 50000"/>
              <a:gd name="adj2" fmla="val 110318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56000" y="26035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联络员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348000" y="2890800"/>
            <a:ext cx="287280" cy="216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0" y="3106800"/>
            <a:ext cx="287280" cy="216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4403880"/>
            <a:ext cx="792360" cy="142560"/>
          </a:xfrm>
          <a:prstGeom prst="leftRightArrow">
            <a:avLst>
              <a:gd name="adj1" fmla="val 50000"/>
              <a:gd name="adj2" fmla="val 11064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348000" y="4043160"/>
            <a:ext cx="287280" cy="431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447516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48000" y="4475160"/>
            <a:ext cx="287280" cy="503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38988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管委办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84360" y="5987880"/>
            <a:ext cx="792360" cy="142920"/>
          </a:xfrm>
          <a:prstGeom prst="leftRightArrow">
            <a:avLst>
              <a:gd name="adj1" fmla="val 50000"/>
              <a:gd name="adj2" fmla="val 110368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6000" y="54831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科技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48000" y="605952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59400" y="2205000"/>
            <a:ext cx="667080" cy="1727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Tahoma"/>
              </a:rPr>
              <a:t>各入网仪器机组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59400" y="4292640"/>
            <a:ext cx="667080" cy="1224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Tahoma"/>
              </a:rPr>
              <a:t>中介或专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56720" y="3213000"/>
            <a:ext cx="431640" cy="71640"/>
          </a:xfrm>
          <a:prstGeom prst="leftRightArrow">
            <a:avLst>
              <a:gd name="adj1" fmla="val 50000"/>
              <a:gd name="adj2" fmla="val 119945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56720" y="4797360"/>
            <a:ext cx="431640" cy="71640"/>
          </a:xfrm>
          <a:prstGeom prst="leftRightArrow">
            <a:avLst>
              <a:gd name="adj1" fmla="val 50000"/>
              <a:gd name="adj2" fmla="val 119945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3467160"/>
            <a:ext cx="144360" cy="647640"/>
          </a:xfrm>
          <a:prstGeom prst="downArrow">
            <a:avLst>
              <a:gd name="adj1" fmla="val 50000"/>
              <a:gd name="adj2" fmla="val 11215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6499080"/>
            <a:ext cx="2160720" cy="35892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5051520"/>
            <a:ext cx="144360" cy="647640"/>
          </a:xfrm>
          <a:prstGeom prst="downArrow">
            <a:avLst>
              <a:gd name="adj1" fmla="val 50000"/>
              <a:gd name="adj2" fmla="val 11215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08360" y="5843520"/>
            <a:ext cx="43196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自治区科技厅审定，管委办通过协作共用网站（</a:t>
            </a: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www.gxyq.cn</a:t>
            </a: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）公布考核结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D2AD-C201-4244-BB97-F3F7E7C10EA6}" type="slidenum">
              <a:t>5</a:t>
            </a:fld>
          </a:p>
        </p:txBody>
      </p:sp>
    </p:spTree>
  </p:cSld>
  <p:transition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26920" y="765000"/>
            <a:ext cx="777240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宋体"/>
              </a:rPr>
              <a:t>第五条  仪器考核指标讲解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400" y="2629080"/>
            <a:ext cx="1277640" cy="3022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ahoma"/>
              </a:rPr>
              <a:t>仪器考核指标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2413080"/>
            <a:ext cx="216036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ahoma"/>
              </a:rPr>
              <a:t>功能利用率</a:t>
            </a: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3640" y="3132000"/>
            <a:ext cx="216036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ahoma"/>
              </a:rPr>
              <a:t>仪器使用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3852720"/>
            <a:ext cx="32414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ahoma"/>
              </a:rPr>
              <a:t>仪器对外开放程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4572000"/>
            <a:ext cx="324144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ahoma"/>
              </a:rPr>
              <a:t>仪器完好程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5364000"/>
            <a:ext cx="374472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ahoma"/>
              </a:rPr>
              <a:t>仪器产生的经济效益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413080" y="2629080"/>
            <a:ext cx="790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3080" y="2629080"/>
            <a:ext cx="0" cy="30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3080" y="5653080"/>
            <a:ext cx="790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13080" y="4861080"/>
            <a:ext cx="790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13080" y="4140360"/>
            <a:ext cx="790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13080" y="3421080"/>
            <a:ext cx="790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692360" y="414036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69080" y="2556000"/>
            <a:ext cx="863640" cy="288720"/>
          </a:xfrm>
          <a:custGeom>
            <a:avLst/>
            <a:gdLst>
              <a:gd name="textAreaLeft" fmla="*/ 18720 w 863640"/>
              <a:gd name="textAreaRight" fmla="*/ 844920 w 863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64558" h="21600">
                <a:moveTo>
                  <a:pt x="0" y="0"/>
                </a:moveTo>
                <a:lnTo>
                  <a:pt x="64558" y="0"/>
                </a:lnTo>
                <a:lnTo>
                  <a:pt x="64558" y="21600"/>
                </a:lnTo>
                <a:lnTo>
                  <a:pt x="0" y="21600"/>
                </a:lnTo>
                <a:close/>
              </a:path>
              <a:path fill="lightenLess" w="64558" h="21600">
                <a:moveTo>
                  <a:pt x="0" y="0"/>
                </a:moveTo>
                <a:lnTo>
                  <a:pt x="64558" y="0"/>
                </a:lnTo>
                <a:lnTo>
                  <a:pt x="63158" y="1400"/>
                </a:lnTo>
                <a:lnTo>
                  <a:pt x="1400" y="1400"/>
                </a:lnTo>
                <a:close/>
              </a:path>
              <a:path fill="darken" w="64558" h="21600">
                <a:moveTo>
                  <a:pt x="64558" y="0"/>
                </a:moveTo>
                <a:lnTo>
                  <a:pt x="64558" y="21600"/>
                </a:lnTo>
                <a:lnTo>
                  <a:pt x="63158" y="20200"/>
                </a:lnTo>
                <a:lnTo>
                  <a:pt x="63158" y="1400"/>
                </a:lnTo>
                <a:close/>
              </a:path>
              <a:path fill="darkenLess" w="64558" h="21600">
                <a:moveTo>
                  <a:pt x="64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58" y="20200"/>
                </a:lnTo>
                <a:close/>
              </a:path>
              <a:path fill="lighten" w="64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58" h="21600">
                <a:moveTo>
                  <a:pt x="25272" y="3794"/>
                </a:moveTo>
                <a:lnTo>
                  <a:pt x="39285" y="10800"/>
                </a:lnTo>
                <a:lnTo>
                  <a:pt x="2527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计   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9080" y="3205080"/>
            <a:ext cx="863640" cy="289080"/>
          </a:xfrm>
          <a:custGeom>
            <a:avLst/>
            <a:gdLst>
              <a:gd name="textAreaLeft" fmla="*/ 18720 w 863640"/>
              <a:gd name="textAreaRight" fmla="*/ 844920 w 863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64478" h="21600">
                <a:moveTo>
                  <a:pt x="0" y="0"/>
                </a:moveTo>
                <a:lnTo>
                  <a:pt x="64478" y="0"/>
                </a:lnTo>
                <a:lnTo>
                  <a:pt x="64478" y="21600"/>
                </a:lnTo>
                <a:lnTo>
                  <a:pt x="0" y="21600"/>
                </a:lnTo>
                <a:close/>
              </a:path>
              <a:path fill="lightenLess" w="64478" h="21600">
                <a:moveTo>
                  <a:pt x="0" y="0"/>
                </a:moveTo>
                <a:lnTo>
                  <a:pt x="64478" y="0"/>
                </a:lnTo>
                <a:lnTo>
                  <a:pt x="63078" y="1400"/>
                </a:lnTo>
                <a:lnTo>
                  <a:pt x="1400" y="1400"/>
                </a:lnTo>
                <a:close/>
              </a:path>
              <a:path fill="darken" w="64478" h="21600">
                <a:moveTo>
                  <a:pt x="64478" y="0"/>
                </a:moveTo>
                <a:lnTo>
                  <a:pt x="64478" y="21600"/>
                </a:lnTo>
                <a:lnTo>
                  <a:pt x="63078" y="20200"/>
                </a:lnTo>
                <a:lnTo>
                  <a:pt x="63078" y="1400"/>
                </a:lnTo>
                <a:close/>
              </a:path>
              <a:path fill="darkenLess" w="64478" h="21600">
                <a:moveTo>
                  <a:pt x="64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078" y="20200"/>
                </a:lnTo>
                <a:close/>
              </a:path>
              <a:path fill="lighten" w="64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478" h="21600">
                <a:moveTo>
                  <a:pt x="25232" y="3794"/>
                </a:moveTo>
                <a:lnTo>
                  <a:pt x="39245" y="10800"/>
                </a:lnTo>
                <a:lnTo>
                  <a:pt x="2523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计   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6661080" y="3997440"/>
            <a:ext cx="863640" cy="288720"/>
          </a:xfrm>
          <a:custGeom>
            <a:avLst/>
            <a:gdLst>
              <a:gd name="textAreaLeft" fmla="*/ 18720 w 863640"/>
              <a:gd name="textAreaRight" fmla="*/ 844920 w 863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64558" h="21600">
                <a:moveTo>
                  <a:pt x="0" y="0"/>
                </a:moveTo>
                <a:lnTo>
                  <a:pt x="64558" y="0"/>
                </a:lnTo>
                <a:lnTo>
                  <a:pt x="64558" y="21600"/>
                </a:lnTo>
                <a:lnTo>
                  <a:pt x="0" y="21600"/>
                </a:lnTo>
                <a:close/>
              </a:path>
              <a:path fill="lightenLess" w="64558" h="21600">
                <a:moveTo>
                  <a:pt x="0" y="0"/>
                </a:moveTo>
                <a:lnTo>
                  <a:pt x="64558" y="0"/>
                </a:lnTo>
                <a:lnTo>
                  <a:pt x="63158" y="1400"/>
                </a:lnTo>
                <a:lnTo>
                  <a:pt x="1400" y="1400"/>
                </a:lnTo>
                <a:close/>
              </a:path>
              <a:path fill="darken" w="64558" h="21600">
                <a:moveTo>
                  <a:pt x="64558" y="0"/>
                </a:moveTo>
                <a:lnTo>
                  <a:pt x="64558" y="21600"/>
                </a:lnTo>
                <a:lnTo>
                  <a:pt x="63158" y="20200"/>
                </a:lnTo>
                <a:lnTo>
                  <a:pt x="63158" y="1400"/>
                </a:lnTo>
                <a:close/>
              </a:path>
              <a:path fill="darkenLess" w="64558" h="21600">
                <a:moveTo>
                  <a:pt x="64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58" y="20200"/>
                </a:lnTo>
                <a:close/>
              </a:path>
              <a:path fill="lighten" w="64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58" h="21600">
                <a:moveTo>
                  <a:pt x="25272" y="3794"/>
                </a:moveTo>
                <a:lnTo>
                  <a:pt x="39285" y="10800"/>
                </a:lnTo>
                <a:lnTo>
                  <a:pt x="2527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计   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6661080" y="4716360"/>
            <a:ext cx="863640" cy="289080"/>
          </a:xfrm>
          <a:custGeom>
            <a:avLst/>
            <a:gdLst>
              <a:gd name="textAreaLeft" fmla="*/ 18720 w 863640"/>
              <a:gd name="textAreaRight" fmla="*/ 844920 w 863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64478" h="21600">
                <a:moveTo>
                  <a:pt x="0" y="0"/>
                </a:moveTo>
                <a:lnTo>
                  <a:pt x="64478" y="0"/>
                </a:lnTo>
                <a:lnTo>
                  <a:pt x="64478" y="21600"/>
                </a:lnTo>
                <a:lnTo>
                  <a:pt x="0" y="21600"/>
                </a:lnTo>
                <a:close/>
              </a:path>
              <a:path fill="lightenLess" w="64478" h="21600">
                <a:moveTo>
                  <a:pt x="0" y="0"/>
                </a:moveTo>
                <a:lnTo>
                  <a:pt x="64478" y="0"/>
                </a:lnTo>
                <a:lnTo>
                  <a:pt x="63078" y="1400"/>
                </a:lnTo>
                <a:lnTo>
                  <a:pt x="1400" y="1400"/>
                </a:lnTo>
                <a:close/>
              </a:path>
              <a:path fill="darken" w="64478" h="21600">
                <a:moveTo>
                  <a:pt x="64478" y="0"/>
                </a:moveTo>
                <a:lnTo>
                  <a:pt x="64478" y="21600"/>
                </a:lnTo>
                <a:lnTo>
                  <a:pt x="63078" y="20200"/>
                </a:lnTo>
                <a:lnTo>
                  <a:pt x="63078" y="1400"/>
                </a:lnTo>
                <a:close/>
              </a:path>
              <a:path fill="darkenLess" w="64478" h="21600">
                <a:moveTo>
                  <a:pt x="64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078" y="20200"/>
                </a:lnTo>
                <a:close/>
              </a:path>
              <a:path fill="lighten" w="64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478" h="21600">
                <a:moveTo>
                  <a:pt x="25232" y="3794"/>
                </a:moveTo>
                <a:lnTo>
                  <a:pt x="39245" y="10800"/>
                </a:lnTo>
                <a:lnTo>
                  <a:pt x="25232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计   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7236000" y="5508720"/>
            <a:ext cx="863280" cy="288720"/>
          </a:xfrm>
          <a:custGeom>
            <a:avLst/>
            <a:gdLst>
              <a:gd name="textAreaLeft" fmla="*/ 18720 w 863280"/>
              <a:gd name="textAreaRight" fmla="*/ 844560 w 863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64531" h="21600">
                <a:moveTo>
                  <a:pt x="0" y="0"/>
                </a:moveTo>
                <a:lnTo>
                  <a:pt x="64531" y="0"/>
                </a:lnTo>
                <a:lnTo>
                  <a:pt x="64531" y="21600"/>
                </a:lnTo>
                <a:lnTo>
                  <a:pt x="0" y="21600"/>
                </a:lnTo>
                <a:close/>
              </a:path>
              <a:path fill="lightenLess" w="64531" h="21600">
                <a:moveTo>
                  <a:pt x="0" y="0"/>
                </a:moveTo>
                <a:lnTo>
                  <a:pt x="64531" y="0"/>
                </a:lnTo>
                <a:lnTo>
                  <a:pt x="63131" y="1400"/>
                </a:lnTo>
                <a:lnTo>
                  <a:pt x="1400" y="1400"/>
                </a:lnTo>
                <a:close/>
              </a:path>
              <a:path fill="darken" w="64531" h="21600">
                <a:moveTo>
                  <a:pt x="64531" y="0"/>
                </a:moveTo>
                <a:lnTo>
                  <a:pt x="64531" y="21600"/>
                </a:lnTo>
                <a:lnTo>
                  <a:pt x="63131" y="20200"/>
                </a:lnTo>
                <a:lnTo>
                  <a:pt x="63131" y="1400"/>
                </a:lnTo>
                <a:close/>
              </a:path>
              <a:path fill="darkenLess" w="64531" h="21600">
                <a:moveTo>
                  <a:pt x="6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31" y="20200"/>
                </a:lnTo>
                <a:close/>
              </a:path>
              <a:path fill="lighten" w="6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31" h="21600">
                <a:moveTo>
                  <a:pt x="25259" y="3794"/>
                </a:moveTo>
                <a:lnTo>
                  <a:pt x="39272" y="10800"/>
                </a:lnTo>
                <a:lnTo>
                  <a:pt x="2525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计   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6084720"/>
            <a:ext cx="2950920" cy="289080"/>
          </a:xfrm>
          <a:custGeom>
            <a:avLst/>
            <a:gdLst>
              <a:gd name="textAreaLeft" fmla="*/ 18720 w 2950920"/>
              <a:gd name="textAreaRight" fmla="*/ 2932200 w 29509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20245" h="21600">
                <a:moveTo>
                  <a:pt x="0" y="0"/>
                </a:moveTo>
                <a:lnTo>
                  <a:pt x="220245" y="0"/>
                </a:lnTo>
                <a:lnTo>
                  <a:pt x="220245" y="21600"/>
                </a:lnTo>
                <a:lnTo>
                  <a:pt x="0" y="21600"/>
                </a:lnTo>
                <a:close/>
              </a:path>
              <a:path fill="lightenLess" w="220245" h="21600">
                <a:moveTo>
                  <a:pt x="0" y="0"/>
                </a:moveTo>
                <a:lnTo>
                  <a:pt x="220245" y="0"/>
                </a:lnTo>
                <a:lnTo>
                  <a:pt x="218845" y="1400"/>
                </a:lnTo>
                <a:lnTo>
                  <a:pt x="1400" y="1400"/>
                </a:lnTo>
                <a:close/>
              </a:path>
              <a:path fill="darken" w="220245" h="21600">
                <a:moveTo>
                  <a:pt x="220245" y="0"/>
                </a:moveTo>
                <a:lnTo>
                  <a:pt x="220245" y="21600"/>
                </a:lnTo>
                <a:lnTo>
                  <a:pt x="218845" y="20200"/>
                </a:lnTo>
                <a:lnTo>
                  <a:pt x="218845" y="1400"/>
                </a:lnTo>
                <a:close/>
              </a:path>
              <a:path fill="darkenLess" w="220245" h="21600">
                <a:moveTo>
                  <a:pt x="2202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45" y="20200"/>
                </a:lnTo>
                <a:close/>
              </a:path>
              <a:path fill="lighten" w="2202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1000--</a:t>
            </a:r>
            <a:r>
              <a:rPr b="0" lang="zh-CN" sz="1800" spc="-1" strike="noStrike">
                <a:solidFill>
                  <a:srgbClr val="003366"/>
                </a:solidFill>
                <a:latin typeface="Tahoma"/>
              </a:rPr>
              <a:t>标准机时的算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56360" y="6308640"/>
            <a:ext cx="280836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5375-D344-4248-A914-2803F4B02AAB}" type="slidenum">
              <a:t>6</a:t>
            </a:fld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26920" y="981000"/>
            <a:ext cx="777240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宋体"/>
              </a:rPr>
              <a:t>第七条  机组考核指标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46440" y="2679840"/>
            <a:ext cx="1277640" cy="3022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ahoma"/>
              </a:rPr>
              <a:t>机组考核指标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6480" y="2463840"/>
            <a:ext cx="180000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ahoma"/>
              </a:rPr>
              <a:t>服务水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4680" y="3182760"/>
            <a:ext cx="180036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ahoma"/>
              </a:rPr>
              <a:t>人才培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4680" y="3903840"/>
            <a:ext cx="180036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ahoma"/>
              </a:rPr>
              <a:t>科研成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4680" y="4622760"/>
            <a:ext cx="180036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ahoma"/>
              </a:rPr>
              <a:t>管理水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4680" y="5415120"/>
            <a:ext cx="180036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ahoma"/>
              </a:rPr>
              <a:t>条件保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894120" y="2679840"/>
            <a:ext cx="790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94120" y="2679840"/>
            <a:ext cx="0" cy="30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94120" y="5703840"/>
            <a:ext cx="790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894120" y="4911840"/>
            <a:ext cx="790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94120" y="4191120"/>
            <a:ext cx="790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94120" y="3471840"/>
            <a:ext cx="790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173400" y="419112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2000" y="6165720"/>
            <a:ext cx="280800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ECB-CEB8-42BD-9BAC-1D1CF43B1EB5}" type="slidenum">
              <a:t>7</a:t>
            </a:fld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74167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指机组为支持重大科技计划、经济建设和社会事业、支柱产业发展所产生的一定经济和社会效益的服务事例，主要提供所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服务的内容、技术水平和取得的成效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，要求以典型事例叙述的方式上报，材料不少于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500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字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836640"/>
            <a:ext cx="7772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服务水平（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分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6165720"/>
            <a:ext cx="2808000" cy="5493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91B8-8F64-4FB1-B83D-0319FE0CCE04}" type="slidenum">
              <a:t>8</a:t>
            </a:fld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20080" y="1038960"/>
            <a:ext cx="7808040" cy="8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服务水平填报常见问题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、记流水账，没有重点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、把人才培养、科研成果等当做主要内容，混淆概念，颠倒主次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3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、过分强调经济效益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广西大型仪器管理办公室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F649-783A-4F05-91DD-12881CF735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1:35:21Z</dcterms:created>
  <dc:creator>Administrator</dc:creator>
  <dc:description/>
  <dc:language>en-US</dc:language>
  <cp:lastModifiedBy>MICROSOFT</cp:lastModifiedBy>
  <dcterms:modified xsi:type="dcterms:W3CDTF">2013-10-30T13:49:36Z</dcterms:modified>
  <cp:revision>109</cp:revision>
  <dc:subject/>
  <dc:title>强化管理，加快实验动物 平台建设步伐</dc:title>
</cp:coreProperties>
</file>